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4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7B4D-6AB6-430D-BEB8-E7786FC23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In many countries, such as the United States, Japan, and much of Europ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.the growth rate has slow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These countries have completed the </a:t>
            </a:r>
            <a:r>
              <a:rPr b="1" i="1" lang="en-US" sz="1200" spc="-1" strike="noStrike">
                <a:solidFill>
                  <a:srgbClr val="008000"/>
                </a:solidFill>
                <a:latin typeface="Calibri"/>
              </a:rPr>
              <a:t>demographic transition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a term used to describe a dramatic change in birth and death rates. 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As a society becomes more modern, there is a higher educational level.  As the standard of living increases, families have 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fewer children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The demographic transition is said to be complete wh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the birthrate falls to meet the death rate, and the population stops gr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F565-5424-48A8-A696-47529EA6EAFB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Each bar in the diagram represents individuals within a 5-year range.  Males are shown to the left of the center line.  Females are shown to the right of the cent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EBE9-4E9D-410D-BF59-589D2E635227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01A6-E268-4951-B6CF-A236B841689A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CB30-D669-4AC8-B900-BF2B83426DE5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33F0-6244-475D-985A-2BD0C66528EF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2AD9-D985-4376-847A-999B7CFC8455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B4FF-A226-4F52-BB70-589D641851A0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2A79-A78F-4E17-B488-FD292DCEB167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E6F-44F8-4D29-AF8F-0A152E83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F0C-F922-49DD-8854-1974E1A3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95F-904B-4513-9BAB-9EFE8784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8D3-D423-41DC-ABA0-99653F82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E313-AB1F-48D3-AE0B-35AEE0FC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ABCC-FDF7-4B2D-8A16-7477BEF6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72DB-88C8-4DDB-9A09-FFE2A026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41F5-B055-49F0-8D4A-469A0DEB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209E-888A-4EB0-9ED1-C5ADB764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D0FE-0B7D-4F14-A5AA-52AAA127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5347-7EB1-4C07-B39F-2FE7DA63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3D1-28E5-4B20-A603-F0ADABFB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0DF7-7D14-4174-9909-83ED2DE4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0F62-1F40-4FE1-AD41-BA18A6B2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B017-92F3-46D6-999A-EFE7EE9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8B33-ADC6-4BAF-B99F-8C9808C2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B2A8-2277-4C95-9B42-244038E1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E88F-042D-4EDB-B560-8A61EA4C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A216E-9151-4701-8336-A023AE89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DBC5-44CF-45F3-87D7-08FFAA32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04BD3-1DA0-4BDA-B83E-8E4B155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4017-CF7D-4A18-8408-49F528FA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623-E905-4B52-AB02-9222EBDB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FA68-B140-45E3-AAF8-D1BA96C8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AB45-0150-4406-82CD-BD0B988B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FF21-C7C1-4652-9F1D-3B9B6392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3EB0-3120-448E-A693-C7D11B7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0DE8-908C-4A6F-ACE4-0834B43F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A8A3-A662-45B1-B735-35533C69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FF39-B806-4F3A-AE01-34545DA7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1AEF-050E-4D6C-A649-52F1B455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9558-7330-4C7E-87DF-6AD5E30F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49C4-43C9-45F0-A3DF-3B3307DA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C36-BEE5-4762-81CD-5F7BD66C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A30EA-D473-4257-B8D6-86A82223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074F8-B022-4AE7-8E33-29830F5E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43B9-2427-4DEA-A797-BB92FDFE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75E4-2374-40EB-B2B3-59EBD839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CFA3-B81F-4F3E-A9ED-76271E81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DAC10-2F2A-451C-9AE1-BCA9F369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085B-A905-4D70-82AE-70664DAA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AD604-51FC-4DA3-B920-41552646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E9A1-BD00-4013-BE6E-CB2714B0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41D00-18A6-48DC-8D86-379131C9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309-1991-4BAD-BF34-B62F65E3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36379-1E12-440F-9A58-0DF5177A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5C8D4-EA43-4332-BDF2-97B3013F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8A271-3CB8-46F5-9379-D53EF8FF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30E8D-10A4-4668-A7A9-B3B643D7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729E0-E37B-4E26-A2E5-856D0571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89BF5-1D07-4404-9660-1C30719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A9808-E09F-4FC6-BC0C-1DE45CEF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82944-AF0F-41D4-BEF4-AAC78C84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3B874-CC7E-4278-ADBA-9A20906D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1C20-4155-4162-81B1-5B356651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A35-9BC8-4973-83A7-B7B277F7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2BBB-5A93-4F73-AD9D-0E824461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B26E8-8121-4EAE-80C8-4269D924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C05CA-F760-4B0D-9251-8F396115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BC051-D845-4787-81AA-9840C78D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4D636-A866-4AD6-8D9D-E7114335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8D220-16B4-49BC-AD46-A1C68271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1C1EC-2107-4FF4-BFCA-6DB5361B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C3479-7C20-4062-9228-203F9E58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0C92-2D2C-44F3-9767-46B1ACB7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5E861-844B-4EC7-A223-55717B7F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8B6-45BB-4D5F-9DD6-5EED434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8258-6736-4ABE-ACD1-9F208898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2BBDD-4C2F-41C7-8B39-17D38A20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B98E1-E081-4F84-A5BF-075AFBF1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8014D-94D5-495A-965D-4F6D6F91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453AD-9184-414C-8E2C-E729B38B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0B9A3-4972-4558-B2C1-DA62D388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DE6CA-63FF-407C-9F7E-E3571C0F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BDD95-CA35-43BE-A7E8-99D6223B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A15CC-6BB8-49E6-9E8E-61E5B2D9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B3562-9564-4B6A-B544-1391521A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2E1-E83F-448D-A899-5D051989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C0AC7-8E23-44A1-A3C0-927D1B2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16816-3D0B-4972-BFEE-C617940B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E40BA-715B-4B7B-85F0-D43421C7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07892-858C-4FAB-8A9C-7865E633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7DA41-EDDF-437D-AD55-F835A03E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52579-4422-4005-989F-A77DEA7A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9ECCF-6733-4DC0-8721-9581F218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09BA-16E2-416A-80DA-28FFAC38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62214-5284-4F19-9865-CD93D27B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DA078-AAAA-4BD1-ACD4-43A7A71D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DAA-9E2C-49BB-BCF6-0B95B492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2D467-9A96-436C-9726-774CD374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A22C4-1CE2-4E62-B1F3-B846671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231F-AD61-4BF2-B119-9559E350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4F121-0A4F-4858-AAA2-B5A2BE16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C1075-585D-4F55-8F55-83066F33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D692A-7730-480C-8161-2A3FCB90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507A2-6B0D-4DF2-A38C-C628771B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BF2F-1C13-4CE3-8A4B-2800E817DDF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7380-95EA-496D-9F57-3DD8DF6088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96AD-0F73-4344-9344-602E85C4CEE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2C43-29CD-473A-9EFC-B4DEA0C9CB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31FE-D6C0-43C3-98CE-A9D8EF29120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DF89-9EE1-44D2-87A5-B85CDCA09A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8259-B6E5-47DA-A278-C97E3BB17D5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C633-033B-444D-850F-1DBF95B7FB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9113-B639-436B-8CF3-88B5AF00097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7965-AF91-4C0C-8CC1-01ECF72E08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E5D4-4855-4AFF-ABE7-E7FE06D49D9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92F8-F350-4E89-BC90-8F7140C890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41CA-447A-4F2D-9415-4BC3C3207B7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E7B3-2FAF-4329-93A7-E19631A5BA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FAC7-4FE9-4FE2-A8C7-6C4B65565CB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4AF-DE3C-4A10-A504-25B4070EFF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78000" y="3651120"/>
            <a:ext cx="85467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penguins.jpg"/>
          <p:cNvPicPr/>
          <p:nvPr/>
        </p:nvPicPr>
        <p:blipFill>
          <a:blip r:embed="rId2"/>
          <a:stretch/>
        </p:blipFill>
        <p:spPr>
          <a:xfrm>
            <a:off x="152280" y="152280"/>
            <a:ext cx="4451400" cy="2971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wildflower.jpg"/>
          <p:cNvPicPr/>
          <p:nvPr/>
        </p:nvPicPr>
        <p:blipFill>
          <a:blip r:embed="rId3"/>
          <a:stretch/>
        </p:blipFill>
        <p:spPr>
          <a:xfrm>
            <a:off x="4800600" y="152280"/>
            <a:ext cx="4192560" cy="2971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0" y="6550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Lucida Sans Unicode"/>
              </a:rPr>
              <a:t>© Amy Brown (Science Stuff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" descr="400px-World_population.svg.png"/>
          <p:cNvPicPr/>
          <p:nvPr/>
        </p:nvPicPr>
        <p:blipFill>
          <a:blip r:embed="rId1"/>
          <a:stretch/>
        </p:blipFill>
        <p:spPr>
          <a:xfrm>
            <a:off x="-76320" y="609480"/>
            <a:ext cx="9495000" cy="43452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2"/>
          <p:cNvSpPr/>
          <p:nvPr/>
        </p:nvSpPr>
        <p:spPr>
          <a:xfrm>
            <a:off x="3200400" y="52578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171e"/>
                </a:solidFill>
                <a:latin typeface="Lucida Sans Unicode"/>
              </a:rPr>
              <a:t>This is a map of the world's countries by total population, with darker shading indicating larger populatio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304920" y="0"/>
            <a:ext cx="8229600" cy="762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humans 2.jpg"/>
          <p:cNvPicPr/>
          <p:nvPr/>
        </p:nvPicPr>
        <p:blipFill>
          <a:blip r:embed="rId2"/>
          <a:stretch/>
        </p:blipFill>
        <p:spPr>
          <a:xfrm>
            <a:off x="304920" y="914400"/>
            <a:ext cx="4346280" cy="28954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4800600" y="76212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The demographic transition has occurred in only a few countries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04920" y="44956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ever, most of the world population is still growing ______________.  Most of the world population is contributed to about 10 countries, with India and China in the lea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" descr="370px-Angola_population_pyramid_2005.svg.png"/>
          <p:cNvPicPr/>
          <p:nvPr/>
        </p:nvPicPr>
        <p:blipFill>
          <a:blip r:embed="rId1"/>
          <a:stretch/>
        </p:blipFill>
        <p:spPr>
          <a:xfrm>
            <a:off x="1295280" y="1447920"/>
            <a:ext cx="6586560" cy="3381120"/>
          </a:xfrm>
          <a:prstGeom prst="rect">
            <a:avLst/>
          </a:prstGeom>
          <a:ln w="0">
            <a:noFill/>
          </a:ln>
        </p:spPr>
      </p:pic>
      <p:grpSp>
        <p:nvGrpSpPr>
          <p:cNvPr id="405" name="TextBox 2"/>
          <p:cNvGrpSpPr/>
          <p:nvPr/>
        </p:nvGrpSpPr>
        <p:grpSpPr>
          <a:xfrm>
            <a:off x="596880" y="60480"/>
            <a:ext cx="8034480" cy="896760"/>
            <a:chOff x="596880" y="60480"/>
            <a:chExt cx="8034480" cy="896760"/>
          </a:xfrm>
        </p:grpSpPr>
        <p:pic>
          <p:nvPicPr>
            <p:cNvPr id="406" name="TextBox 2" descr=""/>
            <p:cNvPicPr/>
            <p:nvPr/>
          </p:nvPicPr>
          <p:blipFill>
            <a:blip r:embed="rId2"/>
            <a:stretch/>
          </p:blipFill>
          <p:spPr>
            <a:xfrm>
              <a:off x="596880" y="60480"/>
              <a:ext cx="80344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685800" y="15228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ucida Sans Unicode"/>
                </a:rPr>
                <a:t>Make 3 observations</a:t>
              </a:r>
              <a:endParaRPr b="0" lang="en-US" sz="4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08" name="Rectangle 3"/>
          <p:cNvSpPr/>
          <p:nvPr/>
        </p:nvSpPr>
        <p:spPr>
          <a:xfrm>
            <a:off x="0" y="5027760"/>
            <a:ext cx="4495680" cy="1800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235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fa7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4572000" y="5067360"/>
            <a:ext cx="4572000" cy="1739880"/>
          </a:xfrm>
          <a:prstGeom prst="rect">
            <a:avLst/>
          </a:prstGeom>
          <a:solidFill>
            <a:srgbClr val="ffffff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future growth of a is predicted us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3eef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370px-Angola_population_pyramid_2005.svg.png"/>
          <p:cNvPicPr/>
          <p:nvPr/>
        </p:nvPicPr>
        <p:blipFill>
          <a:blip r:embed="rId1"/>
          <a:stretch/>
        </p:blipFill>
        <p:spPr>
          <a:xfrm>
            <a:off x="1295280" y="1447920"/>
            <a:ext cx="6586560" cy="3381120"/>
          </a:xfrm>
          <a:prstGeom prst="rect">
            <a:avLst/>
          </a:prstGeom>
          <a:ln w="0">
            <a:noFill/>
          </a:ln>
        </p:spPr>
      </p:pic>
      <p:grpSp>
        <p:nvGrpSpPr>
          <p:cNvPr id="411" name="TextBox 2"/>
          <p:cNvGrpSpPr/>
          <p:nvPr/>
        </p:nvGrpSpPr>
        <p:grpSpPr>
          <a:xfrm>
            <a:off x="596880" y="60480"/>
            <a:ext cx="8034480" cy="896760"/>
            <a:chOff x="596880" y="60480"/>
            <a:chExt cx="8034480" cy="896760"/>
          </a:xfrm>
        </p:grpSpPr>
        <p:pic>
          <p:nvPicPr>
            <p:cNvPr id="412" name="TextBox 2" descr=""/>
            <p:cNvPicPr/>
            <p:nvPr/>
          </p:nvPicPr>
          <p:blipFill>
            <a:blip r:embed="rId2"/>
            <a:stretch/>
          </p:blipFill>
          <p:spPr>
            <a:xfrm>
              <a:off x="596880" y="60480"/>
              <a:ext cx="80344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685800" y="15228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ucida Sans Unicode"/>
                </a:rPr>
                <a:t>Age-Structure Diagrams</a:t>
              </a:r>
              <a:endParaRPr b="0" lang="en-US" sz="4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4" name="Rectangle 3"/>
          <p:cNvSpPr/>
          <p:nvPr/>
        </p:nvSpPr>
        <p:spPr>
          <a:xfrm>
            <a:off x="0" y="5027760"/>
            <a:ext cx="4495680" cy="1800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235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fa7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4572000" y="5067360"/>
            <a:ext cx="4572000" cy="1739880"/>
          </a:xfrm>
          <a:prstGeom prst="rect">
            <a:avLst/>
          </a:prstGeom>
          <a:solidFill>
            <a:srgbClr val="ffffff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future growth of a is predicted us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3eef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" descr="age structure 2.jpg"/>
          <p:cNvPicPr/>
          <p:nvPr/>
        </p:nvPicPr>
        <p:blipFill>
          <a:blip r:embed="rId1"/>
          <a:stretch/>
        </p:blipFill>
        <p:spPr>
          <a:xfrm>
            <a:off x="-15840" y="0"/>
            <a:ext cx="9058320" cy="48006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2"/>
          <p:cNvSpPr/>
          <p:nvPr/>
        </p:nvSpPr>
        <p:spPr>
          <a:xfrm>
            <a:off x="-152280" y="4800600"/>
            <a:ext cx="102106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3 observatio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9" name="Picture 5" descr="population_pyramid_growi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Oval 8"/>
            <p:cNvSpPr/>
            <p:nvPr/>
          </p:nvSpPr>
          <p:spPr>
            <a:xfrm>
              <a:off x="761760" y="4953240"/>
              <a:ext cx="7010640" cy="99036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2286000" y="3352680"/>
              <a:ext cx="3809880" cy="160020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3276720" y="990360"/>
              <a:ext cx="1752480" cy="236232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3" name="Text Box 7"/>
            <p:cNvSpPr/>
            <p:nvPr/>
          </p:nvSpPr>
          <p:spPr>
            <a:xfrm>
              <a:off x="2339640" y="5158080"/>
              <a:ext cx="37717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4" name="Text Box 9"/>
            <p:cNvSpPr/>
            <p:nvPr/>
          </p:nvSpPr>
          <p:spPr>
            <a:xfrm>
              <a:off x="2781360" y="3981600"/>
              <a:ext cx="28191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2360880" y="2014920"/>
              <a:ext cx="38545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age structure 2.jpg"/>
          <p:cNvPicPr/>
          <p:nvPr/>
        </p:nvPicPr>
        <p:blipFill>
          <a:blip r:embed="rId1"/>
          <a:srcRect l="0" t="9529" r="0" b="0"/>
          <a:stretch/>
        </p:blipFill>
        <p:spPr>
          <a:xfrm>
            <a:off x="0" y="990720"/>
            <a:ext cx="9058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1523880"/>
            <a:ext cx="447516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28" name="Rectangle 2"/>
          <p:cNvSpPr/>
          <p:nvPr/>
        </p:nvSpPr>
        <p:spPr>
          <a:xfrm>
            <a:off x="380880" y="152280"/>
            <a:ext cx="84582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 A and 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Make 3 observ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1523880"/>
            <a:ext cx="447516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30" name="Rectangle 2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4761000" y="914400"/>
            <a:ext cx="4078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many more _________ than ______ groups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In each higher age group, there are fewer and fewer individua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can reasonably be predicted that population A will experienc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______ growth in the fu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838080"/>
            <a:ext cx="4910400" cy="4430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33" name="Rectangle 2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B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5334120" y="838080"/>
            <a:ext cx="3657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can reasonably be predicted that population A will experienc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______ growth in the fu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MC900434385.WMF"/>
          <p:cNvPicPr/>
          <p:nvPr/>
        </p:nvPicPr>
        <p:blipFill>
          <a:blip r:embed="rId1"/>
          <a:stretch/>
        </p:blipFill>
        <p:spPr>
          <a:xfrm>
            <a:off x="380880" y="2209680"/>
            <a:ext cx="2946600" cy="2675160"/>
          </a:xfrm>
          <a:prstGeom prst="rect">
            <a:avLst/>
          </a:prstGeom>
          <a:ln w="0">
            <a:noFill/>
          </a:ln>
        </p:spPr>
      </p:pic>
      <p:grpSp>
        <p:nvGrpSpPr>
          <p:cNvPr id="382" name="Rectangle 2"/>
          <p:cNvGrpSpPr/>
          <p:nvPr/>
        </p:nvGrpSpPr>
        <p:grpSpPr>
          <a:xfrm>
            <a:off x="542880" y="244440"/>
            <a:ext cx="7935840" cy="1279440"/>
            <a:chOff x="542880" y="244440"/>
            <a:chExt cx="7935840" cy="1279440"/>
          </a:xfrm>
        </p:grpSpPr>
        <p:pic>
          <p:nvPicPr>
            <p:cNvPr id="383" name="Rectangle 2" descr=""/>
            <p:cNvPicPr/>
            <p:nvPr/>
          </p:nvPicPr>
          <p:blipFill>
            <a:blip r:embed="rId2"/>
            <a:stretch/>
          </p:blipFill>
          <p:spPr>
            <a:xfrm>
              <a:off x="542880" y="244440"/>
              <a:ext cx="79358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24960" y="380880"/>
              <a:ext cx="78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Lucida Sans Unicode"/>
                </a:rPr>
                <a:t>Human Population Growth</a:t>
              </a:r>
              <a:r>
                <a:rPr b="0" lang="en-US" sz="4400" spc="-1" strike="noStrike">
                  <a:solidFill>
                    <a:srgbClr val="ffffff"/>
                  </a:solidFill>
                  <a:latin typeface="Lucida Sans Unicode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85" name="Rectangle 3"/>
          <p:cNvSpPr/>
          <p:nvPr/>
        </p:nvSpPr>
        <p:spPr>
          <a:xfrm>
            <a:off x="3657600" y="1523880"/>
            <a:ext cx="5105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For most of human existence, the population grew very slowly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Limiting factors that kept the human population low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457200" y="304920"/>
            <a:ext cx="8458200" cy="2531160"/>
          </a:xfrm>
          <a:prstGeom prst="rect">
            <a:avLst/>
          </a:prstGeom>
          <a:solidFill>
            <a:srgbClr val="39639d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Lucida Sans Unicode"/>
              </a:rPr>
              <a:t>About 500 years ago, the human population began to grow at a staggering rate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Lucida Sans Unicode"/>
              </a:rPr>
              <a:t>What factors do you think effected growth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Intel HD:Users:a3smith:Desktop:human population.jpg"/>
          <p:cNvPicPr/>
          <p:nvPr/>
        </p:nvPicPr>
        <p:blipFill>
          <a:blip r:embed="rId1"/>
          <a:stretch/>
        </p:blipFill>
        <p:spPr>
          <a:xfrm>
            <a:off x="152280" y="1295280"/>
            <a:ext cx="4800600" cy="3810240"/>
          </a:xfrm>
          <a:prstGeom prst="rect">
            <a:avLst/>
          </a:prstGeom>
          <a:ln cap="sq" w="38160">
            <a:solidFill>
              <a:srgbClr val="1faecd"/>
            </a:solidFill>
            <a:miter/>
          </a:ln>
        </p:spPr>
      </p:pic>
      <p:sp>
        <p:nvSpPr>
          <p:cNvPr id="388" name="TextBox 2"/>
          <p:cNvSpPr/>
          <p:nvPr/>
        </p:nvSpPr>
        <p:spPr>
          <a:xfrm>
            <a:off x="609480" y="228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3 observations  about this grap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humpop_2"/>
          <p:cNvPicPr/>
          <p:nvPr/>
        </p:nvPicPr>
        <p:blipFill>
          <a:blip r:embed="rId1"/>
          <a:stretch/>
        </p:blipFill>
        <p:spPr>
          <a:xfrm>
            <a:off x="838080" y="609480"/>
            <a:ext cx="78487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" descr="Intel HD:Users:a3smith:Desktop:human population.jpg"/>
          <p:cNvPicPr/>
          <p:nvPr/>
        </p:nvPicPr>
        <p:blipFill>
          <a:blip r:embed="rId1"/>
          <a:stretch/>
        </p:blipFill>
        <p:spPr>
          <a:xfrm>
            <a:off x="152280" y="1295280"/>
            <a:ext cx="4800600" cy="3810240"/>
          </a:xfrm>
          <a:prstGeom prst="rect">
            <a:avLst/>
          </a:prstGeom>
          <a:ln cap="sq" w="38160">
            <a:solidFill>
              <a:srgbClr val="1faec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"/>
          <p:cNvSpPr/>
          <p:nvPr/>
        </p:nvSpPr>
        <p:spPr>
          <a:xfrm>
            <a:off x="228600" y="838080"/>
            <a:ext cx="8686800" cy="2104920"/>
          </a:xfrm>
          <a:prstGeom prst="rect">
            <a:avLst/>
          </a:prstGeom>
          <a:solidFill>
            <a:srgbClr val="39639d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What type of growth have humans experienced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arrying.png"/>
          <p:cNvPicPr/>
          <p:nvPr/>
        </p:nvPicPr>
        <p:blipFill>
          <a:blip r:embed="rId1"/>
          <a:stretch/>
        </p:blipFill>
        <p:spPr>
          <a:xfrm>
            <a:off x="152280" y="152280"/>
            <a:ext cx="3200400" cy="36640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4"/>
          <p:cNvSpPr/>
          <p:nvPr/>
        </p:nvSpPr>
        <p:spPr>
          <a:xfrm>
            <a:off x="3778200" y="9144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xponential growt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3835440" y="1828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anno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228600" y="38862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The questions to be answered are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When will we reach the limit of these resources?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How large will the population get?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Will the planet be able to support this huge human population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4191120" y="228600"/>
            <a:ext cx="4724280" cy="2775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Human population grows exponentially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" descr="MC900078708.WMF"/>
          <p:cNvPicPr/>
          <p:nvPr/>
        </p:nvPicPr>
        <p:blipFill>
          <a:blip r:embed="rId1"/>
          <a:stretch/>
        </p:blipFill>
        <p:spPr>
          <a:xfrm>
            <a:off x="0" y="2438280"/>
            <a:ext cx="4551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21:42:46Z</dcterms:created>
  <dc:creator>Roman-Wensing, Kayla</dc:creator>
  <dc:description/>
  <cp:keywords/>
  <dc:language>en-US</dc:language>
  <cp:lastModifiedBy>Roman-Wensing, Kayla</cp:lastModifiedBy>
  <dcterms:modified xsi:type="dcterms:W3CDTF">2018-05-06T19:53:37Z</dcterms:modified>
  <cp:revision>150</cp:revision>
  <dc:subject/>
  <dc:title>Population Ec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1600619991</vt:lpwstr>
  </property>
</Properties>
</file>